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4058C2A-CA08-4B7C-9D4F-41F35E7FEF9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178EBF-9B17-499A-8B45-FFBAA4E649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17AB08E-C7CC-4F82-B85C-00335DDEFAB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80B053-8936-494E-ADE5-DB5B6B1478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F482470-6EAB-4E70-9972-5889DB9F125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CAF70D-AC35-4F74-BA6C-6131674081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49C2770-0F36-4A7B-988D-BF9C7F71E4E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7E17E4-905F-4099-9185-0A8519A8583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1F5DE8-FA29-4374-9CFF-309012BD252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D8C884D-5F92-4552-B190-38F26225D29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8DD8C6-AF3C-461D-86DF-7FC7AE3467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4089F-845F-495C-92A0-D2CB8D78B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B64BAF-E6A7-4198-8AA8-903A2339FF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63E309-15CA-46A3-8033-ACFE602BB7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08D4FD5-3806-4B17-AC9D-281E4F42AC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2B23CCD-FD2D-4464-886B-AE5E88D1BF2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683AC73-5C52-4995-A40E-4BAF05FCF1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ED2CD3-1857-4F74-8B3B-A8A4275D46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ECF55E-88FC-4CB2-94DF-5C2F6574C1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D2C31D-5CB2-4022-9187-3B7460BCAA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038FC2B-1474-4576-ABFA-AC641AEC580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B4826-7608-4FD2-903E-891C160B2D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2A42CF-BB99-4169-9109-0F21427A69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4B3B8E-21EB-471B-98D0-F36F3659B40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5B91E-E677-4095-8BAE-C17FECECEA9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2CFB29-7D61-45A9-86FF-461455AD02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A881170-5442-4323-96EE-C240BD4EF9BB}"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B4AF0A-70E5-4C8C-8456-7DA88CE0602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70C9E2-31FC-400D-B132-15F5FAE4C622}"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2C01A-989C-458E-86E3-66D455A3296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838C6F-FE14-46FB-82E1-9D46CAC2BE4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DDC03-8CF8-48CD-B32F-DD67F43E760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7B0C0-B4CE-4AA0-83BB-B5B41B4C3E63}"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2DC17-DAC9-4457-9F74-A62D6907E75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31D2A1-966B-4D1B-A43D-31083AE05BA7}"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70BAD1-0504-4A1A-8DBE-779D826A566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AD9B3F-0413-45F9-B970-1ACC8AB810F0}"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771EF-62AE-4D4B-A60D-09E308BE28E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36C27D-2769-452E-BC02-4D5D53681EF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A9F10C-8B52-4FD1-9DB1-767E154F63DC}"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537993-0885-46B1-9B20-F5D1C4414A2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9B7CF-1BCD-4652-A34E-80D052DE071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AC4690-F939-4434-8600-13B55080883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2F21EF-F0FB-4154-A53E-8C130297E4E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53DCDF-267B-4737-A39C-CFD7908CAF4B}"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CD9A04-E159-42FE-87F9-D065FAC24828}"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C3AF9-967B-4C4F-9050-2EF803765F98}"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C88ABB-5975-476F-9F57-FA0B20C75BBB}"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A14AE7-F881-4114-A6B5-D5ADC1ED5B6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52DEE8-E2E8-4584-94DA-062EB87492DC}"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9839F1-5769-421A-AE75-01F4D0CFAB65}"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2FD8B-0017-43CD-AEB1-0FEABE866196}"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7DD1A-5B59-45C1-8284-9CDBCA46FFE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1D4687-82F0-42D6-B063-BEC3957FABA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7FEDCA-B436-4DA0-9F76-DF2140313FE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89CE1-846A-44C4-AD61-44B180F0188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A388E-C47F-461D-9AA2-99C3ED47BEF1}"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84D4E-F46F-48AD-B586-934419363A6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E7CFF4-14E3-4844-996D-9C13223D4FD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79C500-1AF1-4181-9D60-D20B9A904D6D}"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0902F-3173-4CF7-B465-07CAB935AF4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0656BC-D39C-4AE6-8A2F-E42611FF7E2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047682-E9DE-4745-A235-635DBC128D7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54143-087A-4B42-A5E5-73CBE5BF5AEE}"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0DA87-BA83-4425-A2F7-87CA9B4088B9}"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A407C6-7A03-4E29-890A-C0C172FB5CC6}"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99ECCF-FA44-42CB-87B9-247772B24CF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BF7AF1-FBDB-4503-9C50-B064CC01C6BA}"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5E63E-57A2-422A-A2E3-CEFC5D4C89F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4404B9-4739-46F2-A3BD-5B06BEE4FBB4}"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8356DD-C09E-4EF8-836A-C5250736E7E5}"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D9BF42-ACB2-4602-946B-D2A1B5520AE2}"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91034-AF27-451D-AD4A-54E1D61C41EC}"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1456B1-C47B-4264-B0C2-A2C7477700DF}"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DFC4CBB-CA53-47C9-9C11-EB0AA857424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CB9A50-7F30-4CDC-9BE9-54F45BED207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4EB87A-6F76-4154-A0EE-F752FE7D4474}"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D8193F5-DA10-4D6B-BD0B-B231437107D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B4528E-4E33-48ED-AB56-D446F0580E33}"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41B351-67AB-4A0D-86B0-F893AADC581C}"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D0F673-2FD8-4478-9987-9EE1E7B5D35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6726F-DB5D-4379-9D80-F6CDE5C6E3D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44BDFD-20D7-4F3A-AF07-03459E93365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3F0BB5-C942-4E8F-A855-21A263688E9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0C9B34-6E5B-47E6-AB56-1F91D3404FF0}"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7EBF48-BE95-4192-BF78-C26261306D04}"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292DDF-1772-48C6-84C8-52813D05B0C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152DA-310C-4C09-9EE0-022FE11C7E14}"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7522C3-179D-4C6C-A460-6D95E02EF2E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71000E-35C7-4B72-9E7E-47B9A245363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83DD00-0CA1-4D0A-A612-704771CBCE76}"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87DDBF9-2173-4E3B-89DB-332633F907D9}"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2829F-14F3-4089-8B6F-101B6F69411D}"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E0C8E0-AD69-48B0-A836-C4D8B77F0085}"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3942A4-6C56-40AB-89EA-EEA3D5458B9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3F1E1-7CA3-47F3-B70F-F386F612D71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63866A9-AF90-46CC-9C27-94B37FC7CD4A}"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98BCBD-CFD6-459B-9F49-84A82399636A}"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C5315-C47D-4880-890D-58AB1ED3955F}"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6191E-75BE-48BC-9BF2-DF20E4F939E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A8131E-D550-4E2B-8F90-A854ECBEA672}"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150820-AB2F-4B8B-B6A9-A5EA42DF83F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049963-1CDB-430F-812A-C834B293531A}"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DB0C7FD-6F9C-4A01-A13F-732B3474A98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179E05-673E-4289-AB81-2C4B0FF468D2}"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753A77-C5E3-4621-85DA-6BABE8FCFA9E}"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5F65D1-D757-4140-B946-8E3EDD1A5BE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497CA07-F49E-479D-99DB-117DB2E8E394}"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13AD90-8089-4B93-85D3-7C5653C2B60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F2BA93-3BEE-436B-8802-89F8681D4899}"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C4AA5-D0BC-436C-B763-064507AE87CC}"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886FF1-C27C-4F26-A685-E50122098DF6}"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F8C140-0E2E-4A40-8E5D-E6F515832664}"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F241B-A6D8-4EAD-ACE6-6D3E275A294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B4602B-B0CE-495A-8E14-093D6214EE2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3984A2-8D83-455F-9F20-5DAD3B20FCD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E9AFB-4EF7-4B04-8CAE-E3CA3C4168C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3BAB6D-6459-4887-95C4-3A852788E3D6}"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86C87F-6557-40EA-BD89-4AEE73FDE4D2}"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96F090-D9FA-4869-A982-B21FB2B98CD4}"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824FA-C192-4A19-9868-687159871D2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30F35-274C-44F6-AAF6-0528FE9DEF37}"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54FBD5-9BFC-4C3C-B875-252E78EB7B49}"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E6221F-6754-4412-B55C-6FA383F6AA8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2B251C-1F60-4CD6-B8EB-1B7013450C8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6F3B7DD-9628-444A-BB79-7A253590DD68}"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7D39D7-41EA-4333-A614-5E4013DE516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A90A72-95AD-4847-9F37-E8E3C5CF3F0D}"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75E89D-9BEB-4C32-BB2E-B0D7A5AFD5B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5C83B-BFAA-4147-8723-0779B2A7C1AF}"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D6310D-64A4-4E5D-890F-53FEEF72A78C}"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7F25A-A187-4C40-BAA5-850DDEF6B42D}"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246CB-E175-4738-BAEA-FAD713D19FB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CAAA4-1A68-4811-80C8-E7277079AF2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8AFBF3-92C7-4119-9F9F-E7258CDA93F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0AB326-A5C9-4022-9F1E-28D70575BC04}"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50C2C-B0B7-46EB-9750-210390BEA13A}"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796695-640B-439C-BAD6-7675928BDF3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97BC50-9BE2-440D-B713-3B797743704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8C981-305D-43FB-9324-4D025A5352E1}"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0C8F3D-CB7F-492A-9B69-EDFA42DF89E0}"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CC195-F90D-477C-BD14-4F69B592EE44}"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D19D2-F47B-449A-872C-FE5689847302}"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32552B-231C-42C8-BC26-1A0BF6348E6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7AF39D-36D6-42C5-9A94-A6A1B9F6383D}"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CEEA2-49E3-48F0-BA70-927C16DACC40}"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20EE9-10AC-4287-9203-14F0C9CDDC14}"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AEA89-3AD5-4257-AFF8-04692CD6D16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3F8941-CAA3-443A-A61D-C2D1762C7D23}"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1707DB-7815-4E52-8B3C-DEA1D309A2C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F7A55B-E942-4FD9-BF54-17C1095AA742}"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5D1D7C-F079-4737-9EC9-2EF5A9F2FDE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D51B1C-9F0A-4E19-9299-CE55986AD48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0ECA1D-5BCC-4259-B347-02B06ACFF72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27C99-01A6-4F76-B6FB-B22290EA1F2E}"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50E617-AF7B-4CA6-AEED-0557F80AC5C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CB4792-1FB8-4C66-9B9E-06BB471EA76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6C7722-9640-44D6-BA2D-30C86021AFC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83541-C40D-4595-B6D5-F72D1C09B84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D6BE89-089F-4AEF-9E75-956465DAD04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B9C7D4D-A4EF-4B68-B27C-5B91DD9A621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DC938-581C-40CD-B423-ECEF38CBA95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939F42-26C8-4837-BD03-0D23AE9D4EA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424592-1507-4CC3-8026-0D4F072B5799}"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BF9D2-B96E-44C3-B489-CB0A88C68569}"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96128-B01E-46CF-8FF9-EFD3F0B0274E}"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E38903-A742-453D-A16B-43002B13ED4E}"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22E3B-C373-47D8-80F9-16E70905601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DFC297-3A7C-4CB1-BDE6-9FF2B4FF644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787809-2CCC-46B3-BA1F-AEEAAD129432}"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B4F389-4805-45C2-B2F3-77739FC1D5AD}"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BB1A7D-DD2D-4708-8DA5-A40C1BDF7C1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828D7-61ED-4FAF-99B7-906D5C2C4A0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C5E917-8176-4AED-B895-DFBDF3846963}"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BA6B4D-E4D9-47A8-A7D7-3180FF2FC551}"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3ECAD-E473-4EE4-BD15-3B9197736967}"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E2D41-8415-4EF6-94F0-0CCA0BF1E2B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3BB08-50BC-4B8E-BC26-83DBC88DE62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EDCAC4-8B13-42E6-BB02-2D859E7E12F1}"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BD2B7A-D2F8-44B7-9DA3-3AD2718A246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157C6-98A7-455A-8E1C-6681AB76F585}"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87B3C2-543B-4F5D-955B-777CF062164B}"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0E4A0-A480-4D14-8844-3B3DF8FC64D2}"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7AE00A-DB2F-4A85-BF72-8BCC210221B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26B7FD-CAF7-4E50-B57A-17AF0FFAC7B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F814A1-915A-4367-88C8-6D8CCE31BA3A}"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0E5A8-2875-40C8-8782-77DF17332F8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07734-EB9B-47B9-B7A9-C24813C1AE23}"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CF2775-FCEE-42AD-A0A9-716C3DB7B16A}"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25A5B0-88B3-4B03-9FFA-4C56EB18570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EF1A76-F4FC-49BB-B61B-757FED8E102A}"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EDD48C-70C6-45BA-97F2-6525F07F818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6BB14C-1D00-4762-A112-4765B3840131}"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D87DB-D879-47A1-8F32-48D4F10B3212}"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0DC52-FDD3-44D2-A3CD-F1502766669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834398-718C-4B6F-B152-CCA41F989528}"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26AAEE-5D6E-4639-9DF4-36137F18817B}"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E17C9-E562-4745-B58E-3A2F5971C707}"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268A49-CBFB-4010-9D7F-9BA56B71D6A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8E451-8696-42C1-A206-4A4E9CB0AC82}"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93C69E-54A7-4CB7-99F1-5EF202E39909}"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C4DEBE5-C239-407B-93F3-DAA0FC0A92C4}"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347C41-ADD7-47DB-94A2-79B28AB2A4B8}"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E9DE5B-87AD-45D8-91A0-852A9EDA3B59}"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73B283-8C96-4CAC-91C3-6046CC39EBD9}"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9CFE38-C463-415D-BC01-A88A6BBAD18F}"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6F4876-2DA8-47C3-B3DD-DEB30638A099}"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988D0-53D0-4146-8EDF-3C3299C87960}"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AA2AB1-3D1B-4CFA-A8B8-34542755AF0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F686F-3618-406D-B0CD-4DCEDEDF35C5}"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4778DC9-6AE6-48DD-85B9-D7CAB84B3810}"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55015-1554-46C1-B96B-000023AA61C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417104-4EA7-4E19-99AD-B885CA191049}"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751A9-05B4-4E8F-8752-DAF931FEE877}"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B4951-AAE2-40DC-BBC2-3BB478FD4F5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6AC823-3EAA-42E5-BCB3-0BC71914996D}"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602637-FC94-4B2D-8DD4-778CB3B16F8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BBC04-1548-43D1-BB46-68D532288582}"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2B583-DAF0-4FC5-A756-FC19EC1981F6}"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817EC4-CEE2-46F3-8E2C-DE28924D6F9D}"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DC2F99-D2FF-42AB-B875-63B43E406C6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923D4-7906-419C-B302-856A32E5624B}"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87E0F2-2959-4CBD-BA64-F472E5134232}"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D68AFF-AC7D-4D5C-9FE0-6DF063ED7B7E}"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FA5E46-77BD-47F1-AECA-4DF3198D680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987AF5-B868-4C8E-A322-FC5559A1867E}"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2D3BD8-A64A-4809-A134-9B6E3BA7769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A315DB-A441-4D52-AF01-9AB80B67011A}"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31754-24F5-40A3-928D-6F9121A8651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771971-5AD5-4D9D-AF24-0DF278CC160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7A4C78-BF06-4311-AAE1-71205E8C6D8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E62A8A-8256-4EBE-848F-D3A53D0A7D6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9BCE9E-7C37-4873-8C4E-45C5CF0D0306}"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25F401-8D9D-415E-A553-7AE57DF052E2}"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EA7760-C54F-4422-A597-0DB411A0C66D}"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0553DF-CF81-4B9A-87FA-526ACC823B2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761FD-4AB3-44ED-A187-1AA22D3F6C20}"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AB6D6-8628-40A5-B0AE-43925384C96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A6EA2B-33F0-4407-AC52-7A38E96AFCC2}"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