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24377"/>
        <c:axId val="88461975"/>
      </c:barChart>
      <c:catAx>
        <c:axId val="20924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61975"/>
        <c:crosses val="autoZero"/>
        <c:auto val="1"/>
        <c:lblAlgn val="ctr"/>
        <c:lblOffset val="100"/>
        <c:noMultiLvlLbl val="0"/>
      </c:catAx>
      <c:valAx>
        <c:axId val="88461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24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538-0C73-4B52-AD51-918D1D68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5A39-489B-43BC-92BE-A289AF5F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066-0C95-4A2C-9AEA-98DEB9D6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4BE8-7945-4944-BA96-650DF1C8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14C7-9C61-41AB-A9BE-108BD41B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600-79F9-4629-9BA3-2BD768BA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E00-E07C-4510-B7CB-E09A911A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03F3-DE51-42DC-A3E3-384C72C8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ECC-7F87-4E47-A187-6FA73127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4BF-6C66-47A8-9EFA-D527EDD1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FD6-71C9-4AA2-B933-E35D9165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5FCE-57B5-4E91-A394-7CCA1B26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9B1EF-3556-4187-9115-9C8E9D4A56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