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161190"/>
        <c:axId val="86433160"/>
      </c:barChart>
      <c:catAx>
        <c:axId val="871611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33160"/>
        <c:crosses val="autoZero"/>
        <c:auto val="1"/>
        <c:lblAlgn val="ctr"/>
        <c:lblOffset val="100"/>
        <c:noMultiLvlLbl val="0"/>
      </c:catAx>
      <c:valAx>
        <c:axId val="86433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611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540C-7671-4D0B-9A30-88DE39AE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F28-B187-4CC9-8B4B-CD3F338A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206B-AFDD-4BEC-877E-A5690A29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7FCF-6FFB-4A23-8EA5-F59D3DCA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84DF-3759-4A59-91E3-F62B4ED4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E77-250C-45B2-BE68-911568D2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3801-7A92-43BD-8458-AB2DCEC0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39DC-DE57-44D9-9BA5-DF3F21DC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1E4-932C-41F3-8053-32248B93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1576-0B6A-4122-A6E6-584C54E3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904B-67AE-44EA-B7AA-93990C21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EBBA-B20B-4BDD-B123-2D47A477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DB6D8-54A0-483F-B8A1-0CB0C518C7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