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96440"/>
        <c:axId val="21822366"/>
      </c:barChart>
      <c:catAx>
        <c:axId val="68196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22366"/>
        <c:crosses val="autoZero"/>
        <c:auto val="1"/>
        <c:lblAlgn val="ctr"/>
        <c:lblOffset val="100"/>
        <c:noMultiLvlLbl val="0"/>
      </c:catAx>
      <c:valAx>
        <c:axId val="218223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96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BD51-7F4A-4CDD-BC07-0BC9B7FB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D3F-A48A-4285-A013-A393E329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24FA-A595-46F6-A7EB-2A11656D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86A-38E9-4970-A239-DAB0464B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FF59-30E8-491B-9022-DDC75FD9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D27-3C88-4BD4-BE60-194D4C8E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3F9-6365-4481-ACF4-F0BFBFB4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8551-16AD-47DC-8688-71947DA4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7C9F-3366-4D97-ABAD-A6611B86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A3B8-F641-4E49-8714-E54BFDBE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A342-2495-4891-A944-CF007414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C458-097E-4E73-A2A5-CC8F3ACF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EBA1F-2A3A-49E1-9673-2A6153FB85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