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338436"/>
        <c:axId val="45552966"/>
      </c:barChart>
      <c:catAx>
        <c:axId val="68338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52966"/>
        <c:crosses val="autoZero"/>
        <c:auto val="1"/>
        <c:lblAlgn val="ctr"/>
        <c:lblOffset val="100"/>
        <c:noMultiLvlLbl val="0"/>
      </c:catAx>
      <c:valAx>
        <c:axId val="45552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38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779-69E9-425E-A78F-103B5F2D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9E75-AA94-4804-96F2-82D4A5C7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2F90-DEAA-4D80-9947-ECEF253A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55AB-C937-4BB6-B89F-3AD306F4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16DE-5E19-4789-80D0-C2F39C9D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0B1-B967-4544-8CC5-248639B3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4DEC-9801-44D1-8166-59F08F3E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4585-FFC1-4C67-BD38-AA9F6EDB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D29-5905-45C0-9D7F-B78802F6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6111-ABFD-48F4-ADFC-32FFF67D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DD2-0B10-4F84-BA3C-F0102030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CFC0-B8C9-4ED9-AEB2-3378190C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FFAE8-A20D-4B3B-812E-BE75B29D48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