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80431"/>
        <c:axId val="70326544"/>
      </c:barChart>
      <c:catAx>
        <c:axId val="7780431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0326544"/>
        <c:crosses val="autoZero"/>
        <c:auto val="1"/>
        <c:lblAlgn val="ctr"/>
        <c:lblOffset val="100"/>
        <c:noMultiLvlLbl val="0"/>
      </c:catAx>
      <c:valAx>
        <c:axId val="7032654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80431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4BAF3-D5E2-415F-9CB3-EF0C2C5250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8BFA68-B577-4640-BA88-B432A2D28F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75F91C-E89B-4742-A17B-5BEE28C11D7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037468-5592-47FE-B710-EA5EB8B90BD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3C1E2B-C223-4079-A643-58F537D28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8052DF-65D1-4AE0-87E4-4BF697C3D8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203033-DCBF-4C77-B51D-010C5D57DD8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1811EB-7B2D-4322-9F93-1F651B6622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274B3-22AC-44A4-9CAA-0402E028A5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24E72-8DB9-44CB-A8BD-A681359514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6E5FC8-85B5-4FF8-BF17-1C258DB937A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2634D-F6BF-44CC-A753-94E721F7B65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0E1240-42AE-4630-9DDE-840A2C713556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