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35481"/>
        <c:axId val="84544216"/>
      </c:barChart>
      <c:catAx>
        <c:axId val="55035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4216"/>
        <c:crosses val="autoZero"/>
        <c:auto val="1"/>
        <c:lblAlgn val="ctr"/>
        <c:lblOffset val="100"/>
        <c:noMultiLvlLbl val="0"/>
      </c:catAx>
      <c:valAx>
        <c:axId val="84544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35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E45-1212-4F97-9515-83B319DA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A5F-3A05-4AB0-8909-5E5FA954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072-D1B5-4426-81A3-4EE49E3A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601-8AB6-47CD-BA70-BF57353E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4D7-63BE-44C9-ABF6-F4E6E49E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B74-F3DC-4EE5-A1B3-CDE1CFB7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DBB-4FB4-4585-81E1-E29ADC2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E43-58BF-42A6-97F9-97829803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22C-EEFC-427E-9053-07DCCE8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192-F2A9-4F5E-BF73-A8377044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40C-41F4-4D54-9844-762E784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445-FD58-4F41-BC16-743880D1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B2554-C343-42D9-9E48-D2789ED2B1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