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88738"/>
        <c:axId val="72055757"/>
      </c:barChart>
      <c:catAx>
        <c:axId val="44488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55757"/>
        <c:crosses val="autoZero"/>
        <c:auto val="1"/>
        <c:lblAlgn val="ctr"/>
        <c:lblOffset val="100"/>
        <c:noMultiLvlLbl val="0"/>
      </c:catAx>
      <c:valAx>
        <c:axId val="72055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88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5A1-B4C7-41BD-8154-FAA7AD8D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F64-7D2E-4805-9751-7CA10805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C75-4745-4978-9A61-96AD866C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A06-9355-492E-B31E-F80DAF2A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CC67-4302-4DAB-A989-003A9215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764-B886-47D0-B85A-C4BCE6D0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371-6B9C-4D5B-A80D-DA1FB7B9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CFED-E0FD-4605-ABF8-0107E45C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C39-9577-424C-9AA5-91E7523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271-3BC8-4E7C-B888-8F894848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61F-8FD5-4C2A-92E4-2D3DADBD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0AF-5CB9-4DDB-946C-216BBCB1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C8EC6-A38E-489E-BC42-540C95C170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