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64220"/>
        <c:axId val="4398326"/>
      </c:barChart>
      <c:catAx>
        <c:axId val="81564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8326"/>
        <c:crosses val="autoZero"/>
        <c:auto val="1"/>
        <c:lblAlgn val="ctr"/>
        <c:lblOffset val="100"/>
        <c:noMultiLvlLbl val="0"/>
      </c:catAx>
      <c:valAx>
        <c:axId val="4398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64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B70-8110-419A-AE05-77296BE3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A1A-6DBE-4791-B752-2647F900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017-03AC-4F20-861D-762E6FE4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EF0-A655-4750-90B6-6484E0B6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723-0759-49FD-B642-06FF374F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D24-4826-4104-8E6C-F3921CF8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A03-BEF2-4282-9D2B-494133FD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BDE-C7D0-48C5-9C47-35424BFF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7C4-5A26-476E-B449-43EDE10E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6F3-7AC7-4B3F-AD86-9437E9D7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8F9-4EF3-4797-ABA6-B32E391C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EE1-FDA5-4814-A1A4-1A48B481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3117F-1072-41B7-853C-B569CC57EE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