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31318"/>
        <c:axId val="52945367"/>
      </c:barChart>
      <c:catAx>
        <c:axId val="20831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5367"/>
        <c:crosses val="autoZero"/>
        <c:auto val="1"/>
        <c:lblAlgn val="ctr"/>
        <c:lblOffset val="100"/>
        <c:noMultiLvlLbl val="0"/>
      </c:catAx>
      <c:valAx>
        <c:axId val="52945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31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AEE-37D7-413B-A5E6-5C564D6E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13C-81DA-45DC-844E-FA9F017C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2ED-D03D-44FE-A63E-7C7EF157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A20-2F99-4C1F-AA6F-18C21DE5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662-2364-478A-8B0A-86C7FA26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4B3-EAD6-4F89-BEB9-F801A48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399-F56A-456F-B027-46B66DD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64D-220A-49A1-904A-F671764E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B86-ECF3-4BCB-919B-EAA43AB8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486-53A7-4DA5-A228-1AAB2858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316-4B69-46C7-AC10-998E174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03E-DF0A-4A10-9DBF-EC2EE25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0C6FD-CA61-4E8F-93D0-FA6BF4E7D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