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82496"/>
        <c:axId val="20825542"/>
      </c:barChart>
      <c:catAx>
        <c:axId val="82082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25542"/>
        <c:crosses val="autoZero"/>
        <c:auto val="1"/>
        <c:lblAlgn val="ctr"/>
        <c:lblOffset val="100"/>
        <c:noMultiLvlLbl val="0"/>
      </c:catAx>
      <c:valAx>
        <c:axId val="2082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82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F95-0B52-4496-A38C-79A65B43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76D-A439-4001-A304-ABE25126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A87-4A9F-4D63-87CF-B2480550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D21-2936-4974-BF7A-DA0CAA98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B0C-436F-4918-9732-7D82782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36E-B50B-48CF-A4E5-B784C3E5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3CE-6188-426F-A02F-8F37CE5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8E4-A740-4C9E-BF40-43648763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041-8EE6-43CE-8166-8DFC4FF4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725-9592-4AA1-8551-C9BBC19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F81-82B5-4593-A288-D55BC4D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F39-CEBD-4139-B41E-DD0E76C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1EF5-280A-4320-B208-78B7F1276D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