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63756"/>
        <c:axId val="978906"/>
      </c:barChart>
      <c:catAx>
        <c:axId val="18363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906"/>
        <c:crosses val="autoZero"/>
        <c:auto val="1"/>
        <c:lblAlgn val="ctr"/>
        <c:lblOffset val="100"/>
        <c:noMultiLvlLbl val="0"/>
      </c:catAx>
      <c:valAx>
        <c:axId val="978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63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002-F67E-4C1D-A6B2-A090A8CD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24D-510A-4849-9653-AA66BFD3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660A-62C2-4A62-B8AC-5580AE9A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42B4-7069-4EED-A265-D5FB0B03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3E5-FD45-4F56-8371-E295F921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98B-C52C-4284-A157-CCF6192B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866-67DB-4A30-A957-9F98ECA4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A24A-5B48-4B24-A371-6DCB81F3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5D7-97F2-4858-89E6-FA48A677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B4E-73DA-400D-9B61-BA84F5C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B2C8-D34B-4686-A72E-9E435B04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2F3-9B42-474F-B9FF-549B623E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BA791-666F-4487-A5DD-84E8AD60FC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