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80364"/>
        <c:axId val="75838705"/>
      </c:barChart>
      <c:catAx>
        <c:axId val="51380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8705"/>
        <c:crosses val="autoZero"/>
        <c:auto val="1"/>
        <c:lblAlgn val="ctr"/>
        <c:lblOffset val="100"/>
        <c:noMultiLvlLbl val="0"/>
      </c:catAx>
      <c:valAx>
        <c:axId val="75838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80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A4B-8A9B-455D-A50B-A75ED54F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E60-7A66-4AD0-A10D-B82E9E4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7AE-92FB-43E0-A4E4-85A7B1E4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C5D-05D2-48EC-AC2B-49B9493A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C42-2CE6-4BAC-B1B9-8CC5FE1E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1C2-0781-439D-AE90-BEFD1BD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120-7A21-4259-BCC4-F12A004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D01-174D-4C4D-82FA-28B9D4C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1E6-5044-4E0D-9C8E-006C8E2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233-8ADF-40A5-A958-4BAE1FB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E87-F740-4429-A05F-3810896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E30-AF1F-4F7A-BF31-DA71D2C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CC3F9-3F2D-4B87-98D6-5B30D6A19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