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19848"/>
        <c:axId val="84377628"/>
      </c:barChart>
      <c:catAx>
        <c:axId val="3019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77628"/>
        <c:crosses val="autoZero"/>
        <c:auto val="1"/>
        <c:lblAlgn val="ctr"/>
        <c:lblOffset val="100"/>
        <c:noMultiLvlLbl val="0"/>
      </c:catAx>
      <c:valAx>
        <c:axId val="843776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9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5B8-F1DF-4BC6-8D00-6D9CE942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ADB-1664-4DA2-9590-C0003A4F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8AE0-B8EF-4C9B-AAD8-CDD9AE08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381-1082-4A71-B8D5-743E5A11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666-F307-4B22-82AC-2070DD17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F62B-F507-4194-B2CB-48CF2F3C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2B6-011E-49DF-A221-87D0B966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82D-8120-450E-BFEC-9154241F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9AA6-D464-4BDF-A56D-106034AF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2ED-B796-4515-BA4A-CA170AF8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F98F-51CE-4FE4-A8DD-C25F7B0D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25E-D712-4C0E-85C9-20B774DF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17DE4-7FD5-462D-B1CE-4EDBC6ABAF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