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88435"/>
        <c:axId val="34549327"/>
      </c:barChart>
      <c:catAx>
        <c:axId val="316884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49327"/>
        <c:crosses val="autoZero"/>
        <c:auto val="1"/>
        <c:lblAlgn val="ctr"/>
        <c:lblOffset val="100"/>
        <c:noMultiLvlLbl val="0"/>
      </c:catAx>
      <c:valAx>
        <c:axId val="345493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884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B634-70D1-44AB-AEA0-BFDEBB8F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244F-4961-4D83-9CF1-1E95E197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497F-361B-48A8-B0B9-36E392A7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1DAA-7F89-4C01-BB12-247691F7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9467-C669-425A-91A6-92F46108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6B19-D034-466E-834E-E6DB73C7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A755-14DE-4716-ACA1-F97D4593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CEA5-17FF-45C3-B91A-1D2BE131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17B5-D806-4256-92FC-1A85CBD6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7523-6803-47E6-AE74-273FD063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3811-46B2-4A17-B880-35500327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C937-C837-47E4-B2B9-E84AB161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7F0F4-2D83-4982-AF1F-59248ADDAA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