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13647"/>
        <c:axId val="44055929"/>
      </c:barChart>
      <c:catAx>
        <c:axId val="69813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55929"/>
        <c:crosses val="autoZero"/>
        <c:auto val="1"/>
        <c:lblAlgn val="ctr"/>
        <c:lblOffset val="100"/>
        <c:noMultiLvlLbl val="0"/>
      </c:catAx>
      <c:valAx>
        <c:axId val="44055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13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B4D-B83A-4FAA-AE0D-1FB7C951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EAD-9B4C-4697-B5F0-170EE0EC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D44-AD98-4FC5-BC69-77E0340A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056-2EC8-4144-937D-7CA76667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620-27AD-4DD3-A6B4-AADCB177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601-C574-472A-AFC8-04133206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17B-DD97-40A3-ABD8-5404F3C0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EFC-4D5A-4336-BB30-489FAC39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204-99A7-4B08-A786-11149A84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551-D35E-4371-BB19-225A9444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A384-D8AE-4A9A-8E81-8141B111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55E-A2A7-4865-BC42-C0C43544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19D90-FA2E-4442-ADBB-8692DFC493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