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012328"/>
        <c:axId val="93472805"/>
      </c:barChart>
      <c:catAx>
        <c:axId val="16012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72805"/>
        <c:crosses val="autoZero"/>
        <c:auto val="1"/>
        <c:lblAlgn val="ctr"/>
        <c:lblOffset val="100"/>
        <c:noMultiLvlLbl val="0"/>
      </c:catAx>
      <c:valAx>
        <c:axId val="93472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12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1401-5F92-4898-8BFE-98B70D2C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F98F-083E-48F0-95B4-871CC24E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8C7-F92E-4939-AC9F-188FD69A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1FC7-212B-4F15-9111-03A2B5A4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910-D47E-4ED0-B4EC-1F245DFA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BFAC-4ADF-4C54-919D-F4CDC28D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A34E-2392-4787-BDC9-973ECE6B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298-3B6C-4AF2-8A41-06B87841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16F-0721-4394-985E-A7B450D4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E9F-A9DE-4136-8EB1-6A64F5E6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B29B-4855-42D9-9A19-32B056A7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4D13-49B6-4A07-B556-9D946EFD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F211C-C10D-468C-9FEF-059DE49EC3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