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45617"/>
        <c:axId val="32828137"/>
      </c:barChart>
      <c:catAx>
        <c:axId val="16245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28137"/>
        <c:crosses val="autoZero"/>
        <c:auto val="1"/>
        <c:lblAlgn val="ctr"/>
        <c:lblOffset val="100"/>
        <c:noMultiLvlLbl val="0"/>
      </c:catAx>
      <c:valAx>
        <c:axId val="32828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45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062-DF2D-4F1D-B7F7-EBD61D8D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5C3-2B45-4ED5-BBEA-3A239912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FAF-A492-477F-ADC0-67D9084E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9C1-6D74-4BD0-9B5B-5BF6DC74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2A5-3852-4C41-924D-616CB82F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EA2-8970-48A2-94A4-90ACC63E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F96-8122-456A-9230-5E810A26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C1C-C7DC-4DB1-A39C-BB4FB2AA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1AF-B043-4009-8ECA-F80111BA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913-532C-4374-8C6E-254F16CD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E0B-4AAB-4244-843C-37D7B7AC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65E-2D58-47CA-BDF9-9F606644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75F5E-CAA2-4592-A6F0-5A76884B16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