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14828"/>
        <c:axId val="62082879"/>
      </c:barChart>
      <c:catAx>
        <c:axId val="9771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82879"/>
        <c:crosses val="autoZero"/>
        <c:auto val="1"/>
        <c:lblAlgn val="ctr"/>
        <c:lblOffset val="100"/>
        <c:noMultiLvlLbl val="0"/>
      </c:catAx>
      <c:valAx>
        <c:axId val="62082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1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904-0015-4FD8-A0EA-6B8F5DA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41C-DD22-469A-B7D8-34527AA1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3AD-3234-47E0-9F73-B092B22A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3D8-1806-4C10-BD6E-1F9B8658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E58-EE40-4DF6-BEBB-EB8EEAE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BD7-A396-461D-9840-6FC796A8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2FA-1B39-4EBB-AE2B-AF093A1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4B3-424A-40E6-AC02-2FE056D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CD0-FCCA-4D58-B99A-86ADCEB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AF2-C1DB-496F-8E31-2E3F94E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FF1-395A-43F1-BC8C-CFE0DFD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35E-144F-4656-8DB1-46439AB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9B2E8-A4B2-47E3-8D8C-8B9F921B4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