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867193"/>
        <c:axId val="91979237"/>
      </c:barChart>
      <c:catAx>
        <c:axId val="998671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79237"/>
        <c:crosses val="autoZero"/>
        <c:auto val="1"/>
        <c:lblAlgn val="ctr"/>
        <c:lblOffset val="100"/>
        <c:noMultiLvlLbl val="0"/>
      </c:catAx>
      <c:valAx>
        <c:axId val="919792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671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0BF-8DE6-4BCB-B091-FD85246B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A09-562B-4330-A090-C10269B4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1590-F701-45CD-A4E6-8A1D84C6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4C8-291A-42D8-99E3-9BDAF1AF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1E28-DDB4-43AE-9059-CC948411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BED-5878-4908-B25F-7C410FE9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3668-5510-4489-A512-2870FBDC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698-48B8-42A5-91A9-05517BF1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DBA9-A7A1-4D6C-B6FB-5F7D4DD2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768-51AB-470B-943C-C8A12994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1B56-4A54-4336-8E2B-1813FA45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8660-121C-43AD-B3A5-216E2F6F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918DD-16FC-4271-B7A4-1204E84091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