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91874"/>
        <c:axId val="5855518"/>
      </c:barChart>
      <c:catAx>
        <c:axId val="31091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5518"/>
        <c:crosses val="autoZero"/>
        <c:auto val="1"/>
        <c:lblAlgn val="ctr"/>
        <c:lblOffset val="100"/>
        <c:noMultiLvlLbl val="0"/>
      </c:catAx>
      <c:valAx>
        <c:axId val="5855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1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57A-C2C4-46FA-8FAA-2386B2B9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27D-E7FF-4806-B5A9-F270E6A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4EC-8205-4D0C-A7A2-B177B58E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F5E-5743-4F0B-B1F8-676FD85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A4E-41D4-4C47-AF50-69A267BC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F0C-9B3A-4908-B2BE-ACD47B27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E8A-1C19-4103-8E91-4F796EB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953-5921-41EA-82D3-B6CBB93B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6D1-2EBA-46F0-82B4-D1769B78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7AA-45CD-440D-AACA-92217B1D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B03-E548-4FA2-B1A6-1AD4DF5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6A6-2C57-4111-8DE6-AB00B42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D3C9B-E257-4A54-93FF-7C16E45D95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