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25924"/>
        <c:axId val="70562419"/>
      </c:barChart>
      <c:catAx>
        <c:axId val="49525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62419"/>
        <c:crosses val="autoZero"/>
        <c:auto val="1"/>
        <c:lblAlgn val="ctr"/>
        <c:lblOffset val="100"/>
        <c:noMultiLvlLbl val="0"/>
      </c:catAx>
      <c:valAx>
        <c:axId val="70562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25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BDA-F266-4D83-8B3B-816C8FFF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856-6481-41BC-86BB-7F14CC03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511-FD19-4BD7-92F6-CF6D038A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CC0-8FC5-4585-92A7-DF05D095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EEE-0522-4C6B-91AC-341AFC13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88E-B23D-4571-8420-9A08173F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8C2-88FA-4505-8155-ACF0A3FA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132-79A8-46BA-94D7-C5A8E2DC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6A1-2704-4739-BE17-22EFB639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23C-2970-43A8-9943-0B3DD29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05A-0359-4AAA-B254-C8C82D6D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971-FDE9-4B4E-90B2-4D6C38A4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57A15-9560-4510-BA95-96A3898F75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