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41415"/>
        <c:axId val="57371321"/>
      </c:barChart>
      <c:catAx>
        <c:axId val="34741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71321"/>
        <c:crosses val="autoZero"/>
        <c:auto val="1"/>
        <c:lblAlgn val="ctr"/>
        <c:lblOffset val="100"/>
        <c:noMultiLvlLbl val="0"/>
      </c:catAx>
      <c:valAx>
        <c:axId val="57371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41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EE6-8DCD-4D62-94E3-1951EE23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493-CA1F-4368-8577-450E9F3C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690-F81B-4547-8E15-4443747B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F35-D37D-4B02-B8FB-643C4B29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690-3D0C-4E77-95E9-30B091C2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8D8-6C06-43DA-B419-31557A39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94F-B5F0-4AA6-881F-7BE94C68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CD4-096B-4598-AE24-DA52B915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55B-ED22-4586-97A9-A821D0C1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C74-7A1B-4A4F-BCFB-94CCE6C5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252-1342-409B-ACAD-9F3FE2D3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0A9-5094-465C-869B-DA3D47F0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D5D39-FD95-499A-A749-43206FB477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