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12012"/>
        <c:axId val="85517431"/>
      </c:barChart>
      <c:catAx>
        <c:axId val="18412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7431"/>
        <c:crosses val="autoZero"/>
        <c:auto val="1"/>
        <c:lblAlgn val="ctr"/>
        <c:lblOffset val="100"/>
        <c:noMultiLvlLbl val="0"/>
      </c:catAx>
      <c:valAx>
        <c:axId val="85517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12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DE0-1AE9-4000-B13B-198E5576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C20-C230-4B88-9D33-E0A8170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9C3-2D4E-4916-8943-5FB072D7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58D-9EAD-4E8C-8D76-6745BB27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05E-B25A-400C-8E38-40E8D8C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DD9-A0E1-4FF4-AD78-C913D33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1CA-3A0F-4DAC-9D63-EE1ACFF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1AD-518B-4EDE-BC0A-388CA6C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442-4829-44F1-8BB5-2F7F9FE6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784-18F5-4458-9956-7910656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25B-D905-4228-82F0-5FA1D86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238-463E-4FC8-8569-73F5D25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B3F17-0AE7-4ECB-B854-D48EF021D6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