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31325"/>
        <c:axId val="20337769"/>
      </c:barChart>
      <c:catAx>
        <c:axId val="53131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37769"/>
        <c:crosses val="autoZero"/>
        <c:auto val="1"/>
        <c:lblAlgn val="ctr"/>
        <c:lblOffset val="100"/>
        <c:noMultiLvlLbl val="0"/>
      </c:catAx>
      <c:valAx>
        <c:axId val="203377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31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411B-81EE-46E2-84F2-78640E1A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0E8-B67F-4CF0-A7FC-D849A81B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6996-CC9F-4186-8EB9-184F51BF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1590-A43D-4131-9C86-099CD0B4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573-D994-4F21-AE06-F38C2BF7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AD7A-3B38-4E39-80EB-6EC91637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B406-C217-4C95-9CBD-FFBEE963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A638-B173-4957-B5EF-B6EFD57B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F37E-7107-4BD2-895D-0A085C1E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1E19-6AD6-4482-970D-67398376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05A-338C-4477-92D8-CB595FC7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3F9-2681-4E11-9A35-30DB78A6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B9101-527A-4DC6-8559-AEE9DBBA9E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